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DF0-67E4-4697-ACBD-7D36AF91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46D-4A37-46D2-BD7A-206AFBFA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C0E-CD47-4AD8-B0E0-B5C45932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35F-F938-4E20-9A4A-1615DB7D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1BF-F975-452C-80A2-50A9250A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FEA-35DC-4C69-AE61-6A6D370D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404-F5BE-4045-85AB-5EB5D534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70A-3C17-4FF0-8426-57A2FBC0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18D-6038-450D-84C8-DB8AFF9F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68F-0E46-4431-8091-8455882B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BA9-2540-4343-AA39-C6B5FAB7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47E-0973-4AC4-9A45-F72E8414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ED4E-D9E6-4E06-8464-51E66C82B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2013-04-16 08.43.3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013-04-16 08.43.4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2013-04-16 08.43.5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2013-04-16 08.44.4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2013-04-16 08.44.5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2013-04-16 08.45.0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5:58:33Z</dcterms:created>
  <dc:creator>rmburdet</dc:creator>
  <dc:description/>
  <dc:language>en-US</dc:language>
  <cp:lastModifiedBy>rmburdet</cp:lastModifiedBy>
  <dcterms:modified xsi:type="dcterms:W3CDTF">2013-04-16T15:59:45Z</dcterms:modified>
  <cp:revision>1</cp:revision>
  <dc:subject/>
  <dc:title>Slide 1</dc:title>
</cp:coreProperties>
</file>